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1C6-5E59-4561-8093-D45AA6BB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F7F-2DF5-4F7F-8B2B-70DAAE00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E44-4005-4777-BEC4-AA463F51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36E-9024-4CC6-A945-8251CD47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509B-2A08-4880-A24B-3BA63C7C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261F-F249-4191-9162-CB9391AF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39CE-4439-451B-8C18-7E77C34C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A43A-50CD-4BF1-B505-0EF45B19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D45D-BAF6-4465-BBA0-F6DB21BB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72E8-5D35-47DE-8FBC-5A71627E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4464-3992-456F-B5E6-E1BA1A6C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8D5-D6A9-4152-A967-98EDC31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581F-D727-4C6B-806C-0EA8333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8ED0-827B-41BE-8A8F-2047A1B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523D-BB9F-4BEA-B51C-3BD8C4B6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3095-AB07-4B31-BFEE-98123AFE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FB8A-239F-41E0-801F-F40A074A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82C-2FD4-4203-B293-FE35E0E6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54B-027D-4D6C-985E-0D332477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A77-FF5C-454D-A4F7-9EEF2192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26A-0260-46BA-B61C-ED586AF6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21C-F809-4F68-9090-1BA6011C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E56-F7E9-446C-93E0-90B3A48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89B-780C-41E9-A3A4-B2C91F1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C717-5A4D-4F27-9922-E7A2C4C840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58B1-E07F-4278-87F9-1018E3866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6200" spc="-1" strike="noStrike">
                <a:solidFill>
                  <a:srgbClr val="ffffff"/>
                </a:solidFill>
                <a:latin typeface="Broadway"/>
              </a:rPr>
              <a:t>Children Of The Sea 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roadway"/>
              </a:rPr>
              <a:t>By :</a:t>
            </a:r>
            <a:r>
              <a:rPr b="0" lang="en-US" sz="30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Broadway"/>
              </a:rPr>
              <a:t>Gabriela Aliz Gonzalez ( 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About The Book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The book was published in the year of 1993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Edwidge Denticat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21066600">
            <a:off x="5943600" y="2590560"/>
            <a:ext cx="214308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aitian-flag.gif Haitian Flag image by j7864life"/>
          <p:cNvPicPr/>
          <p:nvPr/>
        </p:nvPicPr>
        <p:blipFill>
          <a:blip r:embed="rId2"/>
          <a:stretch/>
        </p:blipFill>
        <p:spPr>
          <a:xfrm>
            <a:off x="838080" y="3429000"/>
            <a:ext cx="326736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Characters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Boy – Trapped in a boat with 36 other suffering waiting to see “Girl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Girl – Stuck in Haiti ,stressed out waiting to see “Boy”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Madam Rogers – An older woman who is stuck  in Haiti , finds out that her son got killed and goes to collect his head 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etting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This book takes place in two settings in Haiti &amp; on a boat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roadway"/>
              </a:rPr>
              <a:t>Plot . 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This book is about a young boy &amp; girl that are separated because the Haitian Milita decides to take over &amp; kill their population . The boy has to go on a boat and the girl has to stay in Haiti . They write letters to each other but don’t send them they keep them aside when they see each other again . Both the boy &amp; girl go through and see horrible thing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13336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roadway"/>
              </a:rPr>
              <a:t>Opinion 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My opinion of this book is that its very sad and it makes you think what people actually went threw. The story didn’t have an ending but if I had to make an ending myself I would want the boy and girl to be with each other forever :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 Unicode MS"/>
              </a:rPr>
              <a:t>Thanks , Hope You Liked It – x3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 . German Period 6 Class Add Day WOOP :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8:34:56Z</dcterms:created>
  <dc:creator>Administrator</dc:creator>
  <dc:description/>
  <dc:language>en-US</dc:language>
  <cp:lastModifiedBy>Administrator</cp:lastModifiedBy>
  <dcterms:modified xsi:type="dcterms:W3CDTF">2010-10-20T19:02:30Z</dcterms:modified>
  <cp:revision>2</cp:revision>
  <dc:subject/>
  <dc:title>  Children Of The Sea </dc:title>
</cp:coreProperties>
</file>